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DE9-A13B-4004-B1EC-072162AF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180-C801-444C-8534-E8B4AA4E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0DB73-55E1-45E7-A591-9266444C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6B0DF-62D2-4D47-AE0C-6C74E90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6DB90-E543-4C0F-BBF6-F9CB1AB5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F8075-8C27-4A7E-8AF0-8E2C77D1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F5537-5915-4631-A1F4-7AFE3648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820DB-8737-4764-8DDA-9F11F66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7697C-975C-406C-A9C9-B4246090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E2720-7A45-4592-B590-CD2B0B6D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0C744-8A01-499B-A772-66CC5762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120FB-86AF-4ECB-AFBF-B64C57BC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5D2-58D3-4491-848A-F3AA1985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1FC2A-99AE-4ECD-8562-17BB8201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795A2-1EA1-4E35-BAA2-CE334CCD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E30C2-D857-40D3-AE9B-8DBB6A9F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74AA8-3FA1-44B3-9918-6B396D33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60FED-FCA0-43DD-A607-6891C990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4879B-95F9-4CC2-BBCD-84CCFC76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9B472-2E9D-4F30-9F69-B8D70D2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68D1A-EC4E-4CC4-A03F-E22680F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37173-1D48-49CF-9307-DD57DCC1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B4578-8814-49BF-9916-20B754AC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F07-7B2C-4D2B-AB12-DD0C015C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A56AF-9838-4987-A7AD-FC3791FC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26346-C89D-4DB1-811E-9BDC1B40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5D839-79B6-4686-96C3-4FE67B42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D9E16-1B8C-4DE4-9A01-C8C8C46A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28E6C-56B0-49CF-BACB-A6C5A021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8B124-A5E8-4EEE-9350-8C5458DC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909AB-905D-416D-A800-BEE8C94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55714-DD9D-40AA-8824-6854E3CE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B1DE9-0C49-49C0-91EA-21E3B7CD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97333-5B4D-4E52-82E9-D0646937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9833-7A8F-4665-BB9F-8AA6D142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75314-9FFA-42B3-9126-99B7302D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53A6C-B5D7-4B32-B5A9-5D9550CC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0F3C3-A601-4E77-B9F0-1A46CC9C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F201E-1655-4EB4-B9F1-CAFDDBAB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06885-4BF8-4B84-9B3F-A6F75FAF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7FC04-04EE-4C1B-8DD1-23288446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D0266-19FB-44B5-A657-4A9F0D7B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11DEF-6925-4BDE-8F32-1328D2EF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AA0DF-CCEE-4E77-990C-C25E7EAD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D3B81-7AA2-46C3-8BBC-B261D1A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5420-D6B8-4744-83E9-E5F99A2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CBEB1-117B-42CA-97CB-CFA92FF4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D85C9-1430-4596-912F-1B43D1B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E8E67-AD6C-49B0-8E75-6CB6DF5D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C6960-DD6D-4F32-B691-AD9FD263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4F57F-F11D-4386-80F5-2C5ED1ED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7DFC0-ABD1-4ED8-9020-56B84086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F7BE9-5A3A-4EC2-B2EC-85A4F953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19EA2-765F-4BD3-9243-94BF1F05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D45F1-E780-428F-A155-BCBFAEB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588A3-F24B-4B21-BD69-786B14FA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8FAE-642D-4F60-8A45-95D53371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6BDD1-2397-4E40-A3AA-500869E8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61D54-45DC-4628-BF50-63C138D0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36F14-F3B9-48F3-BEA2-9C58B655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BB961-6C6A-4390-BDAE-4FECBE4E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9D3C8-DC8E-4E07-B8E5-276250F4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5670C-113F-4C78-B483-CA04EFC5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97C7A-230F-44D9-B99E-09A97C17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000DB-B61D-4F6D-90C0-65ED5817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37C98-027E-4749-BCAF-1CCF46BB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17779-A627-4359-AEC9-C0163972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4D7-E9D0-40DC-B10F-F11571EB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F3BB5-D374-44F5-8229-F6AD6CAC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FCE77-78DD-4624-9979-764533D3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1C2E0-D0CF-44B2-9080-C76894A2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E769A-936D-4610-8595-7A7D5D0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8898F-876D-403E-B358-6FF39AE0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48966-4D30-482C-9721-1EDD9B63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BC9B4-2DE8-4C16-85E1-AAB8FE07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6B77F-0E8C-4EE1-9E85-309A2B4F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0968B-27F3-48A3-B3C5-ABEC83E7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E0770-EA90-4A7D-BAAB-903E1A3A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BED-D032-4BA6-BA00-D7F449D9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92235-AA79-47F7-9D59-47CF723A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79495-CB3D-43BC-8231-ABD61099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6E364-56C0-4D30-A50C-98E996A8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90D65-C255-473B-80E5-ECDED577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34E67-9A37-447E-B2BB-03622C31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02DF4-3715-4A14-BFAC-60F1FCA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B4259-160F-4244-A4D5-B33BD12A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6BEF7-CE0F-4AAB-B3AE-D0A7F1D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C8F44-5440-47DF-B37B-B1A8BC3B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34238-2A15-4F1C-AECA-F8C02B25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AF81-03F9-4281-80A8-462EF5B3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47182-BCB7-47DF-BD48-DC05CB56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F6D9C-F105-40B0-A17E-D197F7C4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BDFD75-C047-4D1F-96A1-F8D9130A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808F9-B95D-4BBF-AFE1-85AEB93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18ED4-1CB4-43EC-B481-15330C2D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5A6D9-572A-4325-A2AE-29FC053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58027-FFA8-41BA-9C1B-661EA069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DBBE9-6AA1-4F37-96A0-D35BD13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52876-4EF0-4157-936F-A2B9C7B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D2300-B43E-468E-8578-C5BED6D1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1DE5-F2E9-4025-BCB5-02317DF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5A509-FFA5-438D-9BC2-67944095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6B09A-78B9-4924-8288-A63A722E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B1720-532D-437B-83B8-5C3D9FE8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6843C-45DC-4769-8EF5-5C403F82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B7FB4-E1A8-41DE-9011-F843371F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3AB2B-2805-4A94-98A4-FF008346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9248C-F9D8-45CB-9F08-4443E94E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7C2C2-09D3-46AC-8451-E1E73ACF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0905A-BBD7-4252-BBF1-AE97721C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E91EA-E203-43B4-BB40-44AB38D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843-97E3-4D9B-9977-FB89EA90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D2CF-68EB-4400-8202-1BEF3A8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09CF3-AE20-483A-AC19-B280FA6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05E61-8E8E-4119-9343-31AC5D0E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B0B2B-0F05-42FB-9097-C8981E7E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1975E-680E-47DB-9921-5F653501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14E3C-979F-4FCC-A23D-375E3E35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C9432-6293-4CE8-8331-917F3CBF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50B8C-F10E-4313-ACCE-E57463F9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5C586-0B2D-40E5-945D-D67D2BCA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3E129-27B0-4B26-9E57-EA1E28E7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61AED-7124-430D-9193-921652F0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41EA-914E-495F-B386-DA05AA9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C2338-E4BC-4C2A-8A6F-8D44F287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CF2DD-F95F-43F9-A132-B0DBD3D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C6828-F2B9-4394-B8A5-108B3E86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7EEC4A-14C2-4F94-91E5-8CB72211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95D26E-6D34-4072-931E-BB142EA4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E0E4E-9BB5-4517-9C6A-279C1216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1C18F-353A-4103-89DF-FDE9AEA2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7C6EBC-3CCC-4301-9E25-96B37E41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C9A88B-E57F-4E58-9ACA-6316659A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C32AF-158F-4E2D-BDD9-F3327865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501A-EB69-4D18-B5DE-CAEEC3B9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1B4658-B051-40CD-9F84-5A425142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FC46F-CC60-4132-92CC-187A8050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25BB1-A5FD-4D96-BA9B-2623F308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36276-6D9A-425D-A347-A2CF2AD6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1828D-CF36-47DA-BA03-37E1BC6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208A3-5571-46CA-A985-0A8B7D72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E4791-F9C6-4A7A-B885-A481FD63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6B746-E326-4D97-BC1B-95840B01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42CFC-9DAD-4046-8A70-2CBCE670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FA019-8BDF-431F-B7DD-EE1369E1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CB51-F8AA-48D1-B471-003F7EB0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B3683-DB26-41F2-BB00-1088B437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FF8C70-78E6-422F-A0A7-591380A5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0CECF-C55C-4CB8-983E-A9456DED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BE3809-5E61-480B-83D1-AEF57537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232FD-287F-47D0-AC26-9BBFD42E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73361-1737-4F63-80ED-73D5C1F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D107C-EBF5-408A-BEF3-CC16535F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4D9EEB-79A2-4559-9CC5-30E80FDF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080EC-FD93-4AA4-9EEE-63EDE88B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27FAD1-0160-4CB8-A7F6-C0DAE1E6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A4DA-9891-4AE5-84E2-C981E5A6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E5C2B5-23FD-4623-BC09-71736A2B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67224-EF45-4DB9-B6CC-E801DAAE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CB1485-0D4C-4E1D-BAD1-16F0AF5D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45276B-F352-4C05-ACB0-E5C05624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5D74BE-BBAF-4B10-ACA5-D382EC34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C00FDF-7A84-45B1-8A4E-5C84E77B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7CE76-41FB-4025-9429-2BC298F1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B199E3-CC56-4AF8-8637-CC4CAD6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00C09-D0CC-473A-9579-E08A6830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9C1B7C-7007-4469-81D3-73254DA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B3E32-6334-49D2-953B-F5497F75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E16C79-E01F-44CB-987F-E0184CCC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0A5E7-D3A8-4A88-864F-685D2C1C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FAB0A3-331E-4360-AA46-1A3B5417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780F-E3D9-4B62-A62B-1F4074B8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7783-C7D5-48E5-A6E9-4C8E9B61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2614-602A-4A52-9C8E-7B152949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7BBA2-5E9C-4D33-9763-80C0C128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3EC-792F-46D9-B354-8198A3E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001C6-3731-4AF3-B942-4215E296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1D5B-7544-4029-B413-7AEF6DB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6862-602D-4A9D-876A-F19BE976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CFDC-AB2C-4865-9179-B485C23B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31B6-72E7-4DC6-9ED0-CAABC3BD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3424-E777-43AC-B8FB-BE422BB8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771F-B1EE-471A-AFA0-790F21D6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E1A3-6E4F-431C-915D-03866EE0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B6B5-609F-49D6-B911-57740638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C512-5B16-4078-AEE5-B511F5A2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06D-858C-44D9-8D53-600B48BA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A139-5129-494E-BAE5-E2B93465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7A23-270B-410B-A6D0-53631766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656D-7732-4F08-809F-539D6825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BCE1-C25B-4ABA-A664-E20F589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246A6-BDAB-4D82-B2C6-C7BB5E1D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A564-3059-47E9-B669-C967A795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EF59B-06B9-49E9-89C4-DA494252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54998-0A47-4333-93BE-E57C3F12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5633-BE7F-4722-BE2F-CB7B0D31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3C460-1735-46C2-A4E6-9BBEFFC8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55F-B6C0-4AE2-914D-D085C3F3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7CB2-CB3F-46BA-99C2-BEB06408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D29A4-CAF1-4D3F-96C5-BBC84427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8ECB6-ADF1-4C0F-AE30-C1C4A2FD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2724C-232D-4D68-A495-9956B292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290D8-703F-4D08-A945-A9418744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2354C-E2AC-4B02-B8F8-B692610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1711-9466-438C-8020-085AFE00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E7174-863B-4F6E-B021-2F15B863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A59DC-BA46-44AA-B26F-38D474D7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DCA41-EF56-46DE-8190-508DC217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990-7766-44F7-B3D7-C700BCDC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0022A-BF09-40BF-89A7-BD29F7BC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31C84-A634-4150-A446-128BDB99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9510-8BB6-4E97-94C0-103A7361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6D429-F099-4DD3-9562-6A582B22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698C-022F-4213-A4F9-0F69B2FD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AC88-3E29-4608-8F71-81A450DD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64559-CE78-4FED-AAE1-E55A0FD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1428C-05E1-4A8A-9D1D-33A6BAB2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678A3-8FF4-4A2C-A237-D9EDBE7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4E6C4-B317-4A35-898D-A9D4D7EA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CFB-7D6A-4153-81D3-81E6C03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FC357-8B83-454D-B7FB-5AF8AC4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9A982-3332-4F91-82C0-B1079D06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0DAC2-500B-461B-8E5D-220E09AC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CB88-B326-4A5E-B062-27D99DDC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D7511-766B-4748-81AC-A99F6FD2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5213D-7AF7-4003-87D3-EDF42D58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77984-E960-45CC-B48E-B487156F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EA7B4-1E62-41AC-A78F-61EE2729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F7F8F-91A0-498B-9C2E-7DEA263C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A041-2752-49FD-87CF-06AE90AC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B9F-1172-48FB-8FEE-376C10FE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662AE-DC5A-4A92-90BC-C8069904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D7364-EA42-4013-943E-5BD2DF4D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4A8B-C18A-44B7-B67E-FB7820A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46D9-229B-4264-9F42-07950FA7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9B48F-C2BC-4829-B1D2-1A9E81DA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EBCC9-0D64-4113-91F1-32CC82C4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E8144-88EA-46E5-91C3-10F8F44E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DF6B7-74F5-45E5-8D3E-22D1CD3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2312C-9914-4BBD-8D33-54F24229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5BAE0-E6FD-45F4-A266-5284190E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701-827D-4CD1-96EF-3FF93614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63C00-781D-4AA8-9C30-30A6A0CB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D9327-C5BC-45DB-A13D-855AB6BD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56038-B008-45E6-8DD5-8990434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84F77-2E88-4657-B873-5E3FE518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44DAA-D528-4933-A4F2-D1BAA13E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5D300-FE52-449C-8C9A-C7C1BBB6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40BEC-FE8C-49B5-8889-C2E6F15B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46CFF-8AD4-4367-9A46-39692400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DEF23-A66E-4993-9827-7262415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7698F-6102-4B00-B499-4CEAE6DF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8CC0-9DAC-4305-84B3-9FEE33CE2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7FB6-2FD2-414E-8056-79AB8A46F2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4801-898E-4D29-8984-2754D1C0F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24A3-5E32-4528-90AC-208D589C76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C8C9-8AF1-43BC-9330-AE62376742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3C1-927A-43D3-B58E-7628D6ED4F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8C2C-08BA-4FC0-A32E-AA5755A374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F783-151F-4B6A-B67E-5538FCCA6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3B9C-EE41-4B6F-9AF2-29252B549D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6544-8CFF-4D07-807A-C3D426EED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38AC-0C7F-4FD8-BC31-E03CC8684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AD10-EC81-48F0-ACB0-D1F64C836A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7747-FCC4-41CB-97A7-B4DF0CB24C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CC8A-8AA5-450E-9580-B4DD4DB05A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103B-CC20-4745-9F65-31AC1FCBEE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D826-8685-450D-9AD0-8ACA38EE6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BA12-14D4-449F-9F7D-6F57ADD8CF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46EE-CE1D-4C20-A9AD-31DFB1339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6B66-25AE-4600-9B2C-C347AF8EC7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6B6C-123B-465E-9618-56BE771AB8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7BAA-C895-4140-8B79-3B559852F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B31E-0849-433D-A0AF-07863E307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3056-8B11-42C0-8502-DBAD484A7C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BD53-C136-462F-8579-27FC1F5153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1001-51FF-4F1A-A14B-684A9B455C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43EB-7330-467C-86F4-32363360A7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721D-5F5C-44BD-A33B-4FC5106F5F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43E-D352-4E33-BD25-E9E7B8D6C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B8D5-A4E1-4929-8F09-F6DA14D31F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DD0B-92ED-45CF-9468-8442D0E57D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05A4-B142-4310-99F5-0B7E371E30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D98C-41A7-48E1-808E-D095B5BCEA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76B3-0157-449D-A2E1-33C6219864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98D9-FE35-4E67-9BEE-7D5523C8F0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3BA2-1647-4293-A987-B8680F543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AB49-C904-4D17-A443-9192A4032C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C596-55EC-4DCE-AC43-E9719AAF2C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71F-DA97-4BCA-870F-05C3AB87C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9CF2-02FB-4C03-B4F3-1B6653B3C1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FD1A-98F6-4DEB-8656-1EC24B605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95360" y="3138480"/>
            <a:ext cx="45532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71600" y="961920"/>
            <a:ext cx="8200800" cy="493416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928800" y="142884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1000080" y="235728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1000080" y="27860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1000080" y="41432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6"/>
          <p:cNvSpPr/>
          <p:nvPr/>
        </p:nvSpPr>
        <p:spPr>
          <a:xfrm>
            <a:off x="928800" y="50720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90680" y="1171440"/>
            <a:ext cx="81626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296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48680" cy="61437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78588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25640" y="1177920"/>
            <a:ext cx="39348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71720" y="16430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00080" y="250020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71720" y="30002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7"/>
          <p:cNvSpPr/>
          <p:nvPr/>
        </p:nvSpPr>
        <p:spPr>
          <a:xfrm>
            <a:off x="1071720" y="385776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"/>
          <p:cNvSpPr/>
          <p:nvPr/>
        </p:nvSpPr>
        <p:spPr>
          <a:xfrm>
            <a:off x="1000080" y="471492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9"/>
          <p:cNvSpPr/>
          <p:nvPr/>
        </p:nvSpPr>
        <p:spPr>
          <a:xfrm>
            <a:off x="1000080" y="564372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0"/>
          <p:cNvSpPr/>
          <p:nvPr/>
        </p:nvSpPr>
        <p:spPr>
          <a:xfrm>
            <a:off x="1071720" y="607212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1"/>
          <p:cNvSpPr/>
          <p:nvPr/>
        </p:nvSpPr>
        <p:spPr>
          <a:xfrm>
            <a:off x="1060560" y="650412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420040" cy="581976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4357800" y="3643200"/>
            <a:ext cx="39348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4143240" y="4500720"/>
            <a:ext cx="392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642960" y="2286000"/>
            <a:ext cx="8172360" cy="2371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642960" y="1785960"/>
            <a:ext cx="7991280" cy="4665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6"/>
          <p:cNvSpPr/>
          <p:nvPr/>
        </p:nvSpPr>
        <p:spPr>
          <a:xfrm>
            <a:off x="1893960" y="1832040"/>
            <a:ext cx="3934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7"/>
          <p:cNvSpPr/>
          <p:nvPr/>
        </p:nvSpPr>
        <p:spPr>
          <a:xfrm>
            <a:off x="2286000" y="328608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"/>
          <p:cNvSpPr/>
          <p:nvPr/>
        </p:nvSpPr>
        <p:spPr>
          <a:xfrm>
            <a:off x="3214800" y="421488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519120" y="871560"/>
            <a:ext cx="8105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61880" y="747720"/>
            <a:ext cx="82202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47840" y="1428840"/>
            <a:ext cx="8248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8:0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